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D44-6E9D-4C7B-960B-FC4C229A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2A8-BBDB-426C-8041-6C76C1F5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128-71A8-4AE0-BC6C-4EF63C18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7DC-F9EF-46F5-883B-65D07458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B51-D5E8-4EDE-B908-CB153494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801-BD6B-4E04-A5B6-3D8511A9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29F-5456-4C7E-922C-CB85ABF2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C2F-21B4-4610-8D15-0B80FD7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296-49E0-49A1-8ABD-02683B9A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E6D-0F48-43E4-8E88-14C1983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E50-DBF0-4D7F-933D-11FB1AB5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69B-ED37-4B6D-9736-D4CD0EB7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8F22-5FE6-4609-B587-1477175C5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828720" y="298440"/>
            <a:ext cx="7351560" cy="4194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905120" y="52689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 Aubrey Langley, Ashley Agerter, and Joe Ka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51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irst Platoon of Navajo Code Tal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4" descr="navajo code talkers.jpg"/>
          <p:cNvPicPr/>
          <p:nvPr/>
        </p:nvPicPr>
        <p:blipFill>
          <a:blip r:embed="rId1"/>
          <a:srcRect l="2385" t="0" r="2385" b="0"/>
          <a:stretch/>
        </p:blipFill>
        <p:spPr>
          <a:xfrm>
            <a:off x="304920" y="304920"/>
            <a:ext cx="5994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86040" y="57150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avajo Reservation in Arizo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Placeholder 4" descr="4013518538_bca658ef76.jpg"/>
          <p:cNvPicPr/>
          <p:nvPr/>
        </p:nvPicPr>
        <p:blipFill>
          <a:blip r:embed="rId1"/>
          <a:stretch/>
        </p:blipFill>
        <p:spPr>
          <a:xfrm>
            <a:off x="609480" y="838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5320" y="5181480"/>
            <a:ext cx="403884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Keith Little studying and learning the code with his fellow code talk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Placeholder 4" descr="2.jpg"/>
          <p:cNvPicPr/>
          <p:nvPr/>
        </p:nvPicPr>
        <p:blipFill>
          <a:blip r:embed="rId1"/>
          <a:srcRect l="2385" t="0" r="2385" b="0"/>
          <a:stretch/>
        </p:blipFill>
        <p:spPr>
          <a:xfrm>
            <a:off x="457200" y="9144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81480" y="56386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avajo Code Talker, Keith Little transmitting mess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4" descr="8.jpg"/>
          <p:cNvPicPr/>
          <p:nvPr/>
        </p:nvPicPr>
        <p:blipFill>
          <a:blip r:embed="rId1"/>
          <a:srcRect l="2385" t="0" r="2385" b="0"/>
          <a:stretch/>
        </p:blipFill>
        <p:spPr>
          <a:xfrm>
            <a:off x="609480" y="685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30:03Z</dcterms:created>
  <dc:creator>Installer</dc:creator>
  <dc:description/>
  <dc:language>en-US</dc:language>
  <cp:lastModifiedBy>Information Technology</cp:lastModifiedBy>
  <dcterms:modified xsi:type="dcterms:W3CDTF">2010-02-11T16:06:50Z</dcterms:modified>
  <cp:revision>17</cp:revision>
  <dc:subject/>
  <dc:title>Slide 1</dc:title>
</cp:coreProperties>
</file>